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17B-C5B9-4AB0-AEF3-BB87A042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49A-8B9B-49E1-B38F-8C13DDA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374-8EE8-437F-838C-FA5701F8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CBF-A15B-4AB4-BB2F-94DBA63F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45A-61D7-4A1F-BAF8-F424A14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D86-E096-4C34-B13C-5F3E9D3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BB9-0396-45C6-A8EF-851BA715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706-B303-4E59-8047-00095ED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F41-DC00-4E71-B654-BAEDD950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C9F-F77F-42A2-9E7A-93F5855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202-FC84-46BC-9F6F-50E882F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C68-DE59-4BAB-AFF5-2641D7B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CDEE-F7E3-4459-AEDA-63848032B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6" descr="KS110132.jpg"/>
          <p:cNvPicPr/>
          <p:nvPr/>
        </p:nvPicPr>
        <p:blipFill>
          <a:blip r:embed="rId1"/>
          <a:stretch/>
        </p:blipFill>
        <p:spPr>
          <a:xfrm>
            <a:off x="457200" y="533520"/>
            <a:ext cx="8291520" cy="5513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5486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6" descr="KS110132.jpg"/>
          <p:cNvPicPr/>
          <p:nvPr/>
        </p:nvPicPr>
        <p:blipFill>
          <a:blip r:embed="rId1"/>
          <a:stretch/>
        </p:blipFill>
        <p:spPr>
          <a:xfrm>
            <a:off x="480960" y="1143000"/>
            <a:ext cx="820584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09480" y="1295280"/>
            <a:ext cx="5334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rs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student will set-up a wikispace ac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to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ikispace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 the instructions under “Get Started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are selected to be the wiki manager for the 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to your dashbo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“Create a New wik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name that is group or course rel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 ONLY your group members and instructors.  No one else should be able to view or comment.  (It would spoil the surprise on final day of clas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09480" y="129528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Project Developm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 to group wikisp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Edit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names of group members and top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Science Model Les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Math Model Les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Collaborative PD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Your top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95280"/>
            <a:ext cx="533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group wiki for project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group w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the page you want to work 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“Edi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your contrib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“Save” when finis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 Instructors will be notified when you make additions or chang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09480" y="1295280"/>
            <a:ext cx="53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ssing wik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.  Instructors will periodically visit the wi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as an interactive and collaborative tool will be assess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lowing use of wiki via “history” tab, “discussion” t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ng scope of use of wiki (over time, use by group members, number of visit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unt</cp:lastModifiedBy>
  <dcterms:modified xsi:type="dcterms:W3CDTF">2010-06-23T05:13:19Z</dcterms:modified>
  <cp:revision>2</cp:revision>
  <dc:subject/>
  <dc:title>Presenting the new technology   [Technology Name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59990</vt:lpwstr>
  </property>
</Properties>
</file>